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B508-FB4D-403F-B53B-589684E73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68760" cy="3425760"/>
          </a:xfrm>
          <a:prstGeom prst="rect">
            <a:avLst/>
          </a:prstGeom>
          <a:ln w="0">
            <a:noFill/>
          </a:ln>
        </p:spPr>
      </p:sp>
      <p:sp>
        <p:nvSpPr>
          <p:cNvPr id="116"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08B8E-B810-4E19-B765-FA858AAE2FB9}"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1AACE-AE01-4C6C-B1C4-3043AF472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4470-A0A0-4C3B-A1A6-961481C97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C31D0-D2EA-4EC0-84B7-C804C6EC8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55EC1-0F52-4B0C-94EE-51537E00A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0014E-5BAF-48FF-8101-45C871D9A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D6F07-DA5D-403C-8B35-AD973B0CD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6E4A5-1CE0-42E2-BAF7-0B5302A57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E152-5CF7-4DC2-84A2-D24EEF4FA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30673-A1BE-48FB-8D57-36B9C6081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28D5F-43BC-43E6-ADBF-35B79A6B4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1D9F4-1680-48F8-848E-FC9FFB632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C25EF-FDE9-4D7F-BC23-1C5411AA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D90B1-F6DA-4678-9579-EC80E5BBE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1984A-22D2-46FE-B04E-EDBADC72B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B6C9E-0AFF-4F3F-835A-DBDF7E72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669B5-A128-40EB-88FF-E2856F653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F10B7-157F-4F76-BE45-EA9DE41DA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CEA8B-ECA7-496D-AA6E-7FE1ED33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FC07-80F6-427F-9AD0-7ACC4511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F345-2487-4D54-A2C3-4777CFD9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D59A-8D48-4EDF-AD11-19A2FC449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C447-AAD1-4916-B1D3-5566FA547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D180-1E53-4544-97F3-AC440CB4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2A8A-9AEE-4C59-A65A-DB918A2E3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2011-C06A-4116-B767-6B82D81D00A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9A93-9777-40A3-A416-CFA3C5F33B4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de.idaho.gov/site/common/docs/Achieve%20Gap%20Analysis%20Report.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Our Goal for Today:</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uss and Evaluate Effectiveness of Different Approaches to Assessm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t Topics in Education and ELA</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ssess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vering” Curriculu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ent Area Lite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1</a:t>
            </a:r>
            <a:r>
              <a:rPr b="0" lang="en-US" sz="2900" spc="-1" strike="noStrike" baseline="30000">
                <a:solidFill>
                  <a:srgbClr val="000000"/>
                </a:solidFill>
                <a:latin typeface="Verdana"/>
              </a:rPr>
              <a:t>st</a:t>
            </a:r>
            <a:r>
              <a:rPr b="0" lang="en-US" sz="2900" spc="-1" strike="noStrike">
                <a:solidFill>
                  <a:srgbClr val="000000"/>
                </a:solidFill>
                <a:latin typeface="Verdana"/>
              </a:rPr>
              <a:t> Century Literac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ntering Our Task for the Day:</a:t>
            </a:r>
            <a:br>
              <a:rPr sz="3200"/>
            </a:br>
            <a:r>
              <a:rPr b="0" lang="en-US" sz="3200" spc="-1" strike="noStrike">
                <a:solidFill>
                  <a:srgbClr val="006666"/>
                </a:solidFill>
                <a:latin typeface="Arial"/>
              </a:rPr>
              <a:t>Respond to the Quote Below</a:t>
            </a:r>
            <a:endParaRPr b="0" lang="en-US" sz="3200" spc="-1" strike="noStrike">
              <a:solidFill>
                <a:srgbClr val="006666"/>
              </a:solidFill>
              <a:latin typeface="Arial"/>
            </a:endParaRPr>
          </a:p>
        </p:txBody>
      </p:sp>
      <p:sp>
        <p:nvSpPr>
          <p:cNvPr id="102" name="PlaceHolder 2"/>
          <p:cNvSpPr>
            <a:spLocks noGrp="1"/>
          </p:cNvSpPr>
          <p:nvPr>
            <p:ph/>
          </p:nvPr>
        </p:nvSpPr>
        <p:spPr>
          <a:xfrm>
            <a:off x="609480" y="1523880"/>
            <a:ext cx="8074080" cy="50292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fend, Challenge or Qualify all or part of this quote:</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Learning is not a mechanistic process in which predictable input (teacher quality) produces predictable output (student learning) but a rather humanistic process not open to mechanistic control and measurement. . .So, how do we assess a humanistic process such as teaching?  We successfully judge friendship, love, religious growth, psychological growth and other humanistic processes.  To determine the success of the process, one must engage the people involved, learning in a personal way versus the impersonal manner of tests and so-called ‘objective’ evidence.  No doubt this makes assessment messier and a more frustrating process.  But the alternative is unacceptable.”</a:t>
            </a:r>
            <a:endParaRPr b="0" lang="en-US" sz="21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th Holtzman in the </a:t>
            </a:r>
            <a:r>
              <a:rPr b="0" i="1" lang="en-US" sz="1700" spc="-1" strike="noStrike">
                <a:solidFill>
                  <a:srgbClr val="000000"/>
                </a:solidFill>
                <a:latin typeface="Verdana"/>
              </a:rPr>
              <a:t>Charlotte Observer</a:t>
            </a:r>
            <a:endParaRPr b="0" lang="en-US" sz="1700" spc="-1" strike="noStrike">
              <a:solidFill>
                <a:srgbClr val="000000"/>
              </a:solidFill>
              <a:latin typeface="Verdana"/>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t Topic #1:</a:t>
            </a:r>
            <a:br>
              <a:rPr sz="3200"/>
            </a:br>
            <a:r>
              <a:rPr b="0" lang="en-US" sz="3200" spc="-1" strike="noStrike">
                <a:solidFill>
                  <a:srgbClr val="006666"/>
                </a:solidFill>
                <a:latin typeface="Arial"/>
              </a:rPr>
              <a:t>Assessment and Covering Curriculum</a:t>
            </a:r>
            <a:endParaRPr b="0" lang="en-US" sz="32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y is this a Hot Topic?</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sconception 1 from Wiggins and McTighe:  “Yes, but. . .we have to teach to the tes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Child Left Behind</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acher pay tied to student performance</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ds and phrases like “accountability” and “competing in the global economy”</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 What Can We Do About It?</a:t>
            </a:r>
            <a:endParaRPr b="0" lang="en-US" sz="3600" spc="-1" strike="noStrike">
              <a:solidFill>
                <a:srgbClr val="006666"/>
              </a:solidFill>
              <a:latin typeface="Arial"/>
            </a:endParaRPr>
          </a:p>
        </p:txBody>
      </p:sp>
      <p:sp>
        <p:nvSpPr>
          <p:cNvPr id="106" name=""/>
          <p:cNvSpPr txBox="1"/>
          <p:nvPr/>
        </p:nvSpPr>
        <p:spPr>
          <a:xfrm>
            <a:off x="1369800" y="1827360"/>
            <a:ext cx="7313400" cy="411480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Rectangle 3"/>
          <p:cNvSpPr/>
          <p:nvPr/>
        </p:nvSpPr>
        <p:spPr>
          <a:xfrm>
            <a:off x="1295280" y="2895480"/>
            <a:ext cx="2743200" cy="1905120"/>
          </a:xfrm>
          <a:prstGeom prst="rect">
            <a:avLst/>
          </a:prstGeom>
          <a:solidFill>
            <a:srgbClr val="33cccc"/>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AN CONTROL</a:t>
            </a:r>
            <a:endParaRPr b="0" lang="en-US" sz="2400" spc="-1" strike="noStrike">
              <a:solidFill>
                <a:srgbClr val="000000"/>
              </a:solidFill>
              <a:latin typeface="Arial"/>
            </a:endParaRPr>
          </a:p>
        </p:txBody>
      </p:sp>
      <p:sp>
        <p:nvSpPr>
          <p:cNvPr id="108" name="Rectangle 5"/>
          <p:cNvSpPr/>
          <p:nvPr/>
        </p:nvSpPr>
        <p:spPr>
          <a:xfrm>
            <a:off x="4876920" y="2895480"/>
            <a:ext cx="2743200" cy="1905120"/>
          </a:xfrm>
          <a:prstGeom prst="rect">
            <a:avLst/>
          </a:prstGeom>
          <a:solidFill>
            <a:srgbClr val="33cccc"/>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AN’T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7464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000" spc="-1" strike="noStrike">
                <a:solidFill>
                  <a:srgbClr val="575f6d"/>
                </a:solidFill>
                <a:latin typeface="Times New Roman"/>
              </a:rPr>
              <a:t>Timeline for Adoption in Idaho</a:t>
            </a:r>
            <a:br>
              <a:rPr sz="3000"/>
            </a:br>
            <a:r>
              <a:rPr b="1" lang="en-US" sz="2800" spc="-1" strike="noStrike">
                <a:solidFill>
                  <a:srgbClr val="575f6d"/>
                </a:solidFill>
                <a:latin typeface="Times New Roman"/>
              </a:rPr>
              <a:t>(in Mathematics and Language Arts)</a:t>
            </a:r>
            <a:endParaRPr b="0" lang="en-US" sz="2800" spc="-1" strike="noStrike">
              <a:solidFill>
                <a:srgbClr val="000000"/>
              </a:solidFill>
              <a:latin typeface="Arial"/>
            </a:endParaRPr>
          </a:p>
        </p:txBody>
      </p:sp>
      <p:sp>
        <p:nvSpPr>
          <p:cNvPr id="110" name=""/>
          <p:cNvSpPr/>
          <p:nvPr/>
        </p:nvSpPr>
        <p:spPr>
          <a:xfrm>
            <a:off x="457200" y="1600200"/>
            <a:ext cx="7464600" cy="4870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1-2012/ 2012-2013: Professional development for Idaho teachers, administrators</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3-2014 : Common Core State Standards will be taught in Idaho classrooms</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4-2015: New common assessments based on Common Core State Standards will be delivered </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900" spc="-1" strike="noStrike" u="sng">
                <a:solidFill>
                  <a:srgbClr val="006666"/>
                </a:solidFill>
                <a:uFillTx/>
                <a:latin typeface="Times New Roman"/>
                <a:hlinkClick r:id="rId1"/>
              </a:rPr>
              <a:t>http://www.sde.idaho.gov/site/common/docs/Achieve%20Gap%20Analysis%20Report.pdf</a:t>
            </a:r>
            <a:endParaRPr b="0" lang="en-US" sz="1900" spc="-1" strike="noStrike">
              <a:solidFill>
                <a:srgbClr val="000000"/>
              </a:solidFill>
              <a:latin typeface="Arial"/>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fter Reading:</a:t>
            </a:r>
            <a:br>
              <a:rPr sz="3200"/>
            </a:br>
            <a:r>
              <a:rPr b="0" lang="en-US" sz="3200" spc="-1" strike="noStrike">
                <a:solidFill>
                  <a:srgbClr val="006666"/>
                </a:solidFill>
                <a:latin typeface="Arial"/>
              </a:rPr>
              <a:t>Assessing Assessments (A Ranking Activity)</a:t>
            </a:r>
            <a:endParaRPr b="0" lang="en-US" sz="3200" spc="-1" strike="noStrike">
              <a:solidFill>
                <a:srgbClr val="006666"/>
              </a:solidFill>
              <a:latin typeface="Arial"/>
            </a:endParaRPr>
          </a:p>
        </p:txBody>
      </p:sp>
      <p:sp>
        <p:nvSpPr>
          <p:cNvPr id="112" name="PlaceHolder 2"/>
          <p:cNvSpPr>
            <a:spLocks noGrp="1"/>
          </p:cNvSpPr>
          <p:nvPr>
            <p:ph/>
          </p:nvPr>
        </p:nvSpPr>
        <p:spPr>
          <a:xfrm>
            <a:off x="533160" y="1827000"/>
            <a:ext cx="8305560" cy="48020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refully read each of the assessment descriptions, making note of the key details of each</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ank the assessments from 1 to 8, 1 being the “best” assessment and 8 being the “wors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 you consider how you will define “best” and “worst” consider:</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Wiggins and McTighe argue about assessing understanding</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D</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Wilhelm argues about authentic assessment</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D</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Your own experiences as a student and teacher</a:t>
            </a: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 prepared to defend your ranking based on ALL of the above consider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it Ticket</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rite a proposal for what the very “best” assessment of ELA skills would look like.  You have absolute control and an unlimited amount of money and resources.  What would you propo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4:46:22Z</dcterms:created>
  <dc:creator>BSD</dc:creator>
  <dc:description/>
  <dc:language>en-US</dc:language>
  <cp:lastModifiedBy>BSD</cp:lastModifiedBy>
  <dcterms:modified xsi:type="dcterms:W3CDTF">2011-04-28T21:25:25Z</dcterms:modified>
  <cp:revision>6</cp:revision>
  <dc:subject/>
  <dc:title>Our Goal for Today:</dc:title>
</cp:coreProperties>
</file>